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4E6C33-C2E1-46AF-A084-1DB20CE429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3580DC-D09A-4C72-B92B-C52994CD2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C0C080-E249-425F-BCBB-C52977C4E7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A868AD-DCD5-4F25-9BE5-1DE836CCA7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54DFF-134C-4F47-A02A-E48F2907C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8DE6B-4A50-44CB-9FF7-FD07BBDC6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A9D23-5C37-4F24-BD19-03BC73EE4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2D25A-D40A-4E6D-8468-1C829F9ED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AF32D-A0E0-47CC-B142-293A04ACE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714F6-2DF4-43A0-BC7E-2CD32C959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38F62-1178-4554-B567-1915392FA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93ACD4-761C-4DC1-A39F-3771C9F6E9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DE1E5-5D6C-43D6-971E-BB2A16D8A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F4CF9-EF47-41BA-963E-2F2DCAF5F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49BFB-FC48-4C45-A3E3-81F31C6B6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8F519-51F9-4125-B81F-6B17BD3AC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041E9-E157-4D53-9203-11EF651D1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6BE49E-B42D-41AB-8818-219F58F3F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8206EF-8E7B-448E-ADAA-FDD92041C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5DB235-5B0B-4FDC-B3D6-26CA834B0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FF4A77-FD01-4BC4-8B95-A6A1B8855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E12A8-8471-4148-91F8-3B4322BB9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2DA453-C28C-4A29-9680-24F61CEEB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D9577-FE20-45EA-A166-34A58381DB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0DA2-E94F-492C-A842-C4E381B70DB9}" type="slidenum">
              <a:rPr b="0" lang="nb-NO"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C753-E3FA-4F3D-962F-5E08F38B1777}" type="slidenum">
              <a:rPr b="0" lang="nb-NO"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0" spc="-1" strike="noStrike">
                <a:solidFill>
                  <a:srgbClr val="ffffff"/>
                </a:solidFill>
                <a:latin typeface="Arial"/>
              </a:rPr>
              <a:t>Writing a CV (Curriculum Vitae)</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400" spc="-1" strike="noStrike">
                <a:solidFill>
                  <a:srgbClr val="000000"/>
                </a:solidFill>
                <a:latin typeface="Arial"/>
              </a:rPr>
              <a:t>And writing a cover letter or letter of applic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Writing a CV (Curriculum Vitae)</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ersonal information: Adress, phone, e-mail, date of birth and personal status (married, single et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Key qualif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tails about your education – starting with the most recent information fir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Working exper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Curriculum Vita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Languages. State how well you master the different languages. Ex: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Norwegian – fluent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English – very wel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French – fairly good/amateur</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T abilitie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Can operate Ms Office software; word, excel, power point.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1">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11">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11">
                                            <p:txEl>
                                              <p:pRg st="2" end="2"/>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11">
                                            <p:txEl>
                                              <p:pRg st="4" end="4"/>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Curriculum Vitae</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Interests</a:t>
            </a:r>
            <a:r>
              <a:rPr b="0" lang="nb-NO" sz="3200" spc="-1" strike="noStrike">
                <a:solidFill>
                  <a:srgbClr val="000000"/>
                </a:solidFill>
                <a:latin typeface="Arial"/>
              </a:rPr>
              <a:t>. Your interests should give an idea of what kind of person you are. Keep in mind what job you are applying for, and what would be interesting for your employer to know about you.</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References</a:t>
            </a:r>
            <a:r>
              <a:rPr b="0" lang="nb-NO" sz="3200" spc="-1" strike="noStrike">
                <a:solidFill>
                  <a:srgbClr val="000000"/>
                </a:solidFill>
                <a:latin typeface="Arial"/>
              </a:rPr>
              <a:t>. Include full name and adress of your reference. You can also state their title. Ex: English teacher. Mrs.X…</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Curriculum Vitae</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Remember to change your CV each time you apply for a new job, so that the content of your CV appears relevant to your potential employ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Cover letter / Letter of application</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letter you send with your CV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Explains what job you are applying for and highlights your key qualif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ain purpose: to explain why you are sending a CV</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Your goal: To get the reader interested in checking you out more clos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Cover letter / Letter of application</a:t>
            </a: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Keep the letter short – normally less than a pa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Use the letter to show you meet the exact qualifications mentioned in the advertis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Read the advertisement closely to find out what the employer is interested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Cover letter / Letter of application</a:t>
            </a: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Keep your language formal – serious to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n inviting layou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Correct English; spelling, grammar and punctu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 style that is easy to read: use fonts Arial or Times New Rom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5:08:35Z</dcterms:created>
  <dc:creator>Michelle</dc:creator>
  <dc:description/>
  <dc:language>en-US</dc:language>
  <cp:lastModifiedBy>Michelle</cp:lastModifiedBy>
  <dcterms:modified xsi:type="dcterms:W3CDTF">2011-02-17T10:52:31Z</dcterms:modified>
  <cp:revision>6</cp:revision>
  <dc:subject/>
  <dc:title>Writing a CV (Curriculum Vitae)</dc:title>
</cp:coreProperties>
</file>